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707-DFF5-411F-B0D7-DF579700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978-FD61-4F13-BAF9-F2433081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7A2-C676-4C02-B9C8-36267B19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3F2-52C1-4F5D-8E35-B340D546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59C-50AE-4DEB-B9E9-F875CE7A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9EF-0C99-4A0F-840A-FA3ECF7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250-52B9-41E9-803B-504A948D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1BB-83E8-4217-868E-8FCAB8B0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8F9-A76A-48D3-8A26-04D28121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35B-DA18-4D56-8481-40B4C04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EC6-342A-4093-9D7F-62BD2FD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3D8-0CA7-41F6-BCC7-26E711F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F07-54F5-4002-A3EA-AF7BDD45F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Iris Praid</cp:lastModifiedBy>
  <cp:lastPrinted>2001-01-31T16:21:13Z</cp:lastPrinted>
  <dcterms:modified xsi:type="dcterms:W3CDTF">2008-01-03T19:53:18Z</dcterms:modified>
  <cp:revision>6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